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bserie06.wav" ContentType="audio/x-wav"/>
  <Override PartName="/ppt/media/zapvib04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D9C-4926-4FF0-839A-1E4A26FD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717-C009-4374-B7CE-D0FE01C9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B4D-21A3-4037-9FC3-2D60CC4A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BA9-4C31-4387-A986-55A20D56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9C7-08A5-4D91-9E58-D10B8192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B3E-517A-4075-AD69-D31ACC68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9AF-9D22-4150-9C0A-2D6031DA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363-2369-4B64-82A8-1A4843B1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BC1-221C-48F1-9C10-4CF1BF5F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A6A-06B7-4AF7-AE7E-5036F7C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56D-EFB5-4AA9-84A7-C11DF70D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8A4-B6CB-4C9B-95BB-CC2B36A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6B57-8A39-4DA9-8003-068B5F54D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vib04.wav"/><Relationship Id="rId4" Type="http://schemas.openxmlformats.org/officeDocument/2006/relationships/audio" Target="../media/zipdn102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zapvib04.wav"/><Relationship Id="rId10" Type="http://schemas.openxmlformats.org/officeDocument/2006/relationships/audio" Target="../media/zipdn10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audio" Target="../media/caralarmoff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vib04.wav"/><Relationship Id="rId3" Type="http://schemas.openxmlformats.org/officeDocument/2006/relationships/audio" Target="../media/zipdn102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jetflyby2.wav"/><Relationship Id="rId7" Type="http://schemas.openxmlformats.org/officeDocument/2006/relationships/audio" Target="../media/zapvib04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ralarmoff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vib04.wav"/><Relationship Id="rId3" Type="http://schemas.openxmlformats.org/officeDocument/2006/relationships/audio" Target="../media/zipdn10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jetflyby2.wav"/><Relationship Id="rId15" Type="http://schemas.openxmlformats.org/officeDocument/2006/relationships/audio" Target="../media/zapvib04.wav"/><Relationship Id="rId16" Type="http://schemas.openxmlformats.org/officeDocument/2006/relationships/audio" Target="../media/zipdn102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apbig0g.wav"/><Relationship Id="rId20" Type="http://schemas.openxmlformats.org/officeDocument/2006/relationships/audio" Target="../media/caralarmoff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decimal notation from scientific not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97000" y="1744560"/>
                <a:ext cx="34398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3327480" y="1787400"/>
            <a:ext cx="423720" cy="4240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4000" y="1755720"/>
            <a:ext cx="46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sitive exponent – move the decimal to th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/>
          <p:nvPr/>
        </p:nvCxnSpPr>
        <p:spPr>
          <a:xfrm flipV="1" rot="16200000">
            <a:off x="1713240" y="21859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 rot="16200000">
            <a:off x="2135520" y="2168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1117440" y="2759040"/>
            <a:ext cx="210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4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31920" y="3827520"/>
                <a:ext cx="34416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362400" y="3870360"/>
            <a:ext cx="423720" cy="4237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29280" y="383868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sitive exponent – move the decimal to the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/>
          <p:nvPr/>
        </p:nvCxnSpPr>
        <p:spPr>
          <a:xfrm flipV="1" rot="16200000">
            <a:off x="1748160" y="42688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 rot="16200000">
            <a:off x="2170440" y="42512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152360" y="4857840"/>
            <a:ext cx="24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3,4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 flipV="1" rot="16200000">
            <a:off x="2570400" y="42591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313000" y="38242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decimal notation from scientific not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00160" y="1744560"/>
                <a:ext cx="3633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327480" y="1787400"/>
            <a:ext cx="423720" cy="4240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4000" y="1755720"/>
            <a:ext cx="46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exponent – move the decimal to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7440" y="275904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3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0280" y="3827520"/>
                <a:ext cx="35863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362400" y="3870360"/>
            <a:ext cx="423720" cy="4237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29280" y="383868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exponent – move the decimal to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52360" y="4857840"/>
            <a:ext cx="30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001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8386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/>
          <p:nvPr/>
        </p:nvCxnSpPr>
        <p:spPr>
          <a:xfrm flipV="1" rot="16200000">
            <a:off x="1217880" y="22114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608040" y="38322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/>
          <p:nvPr/>
        </p:nvCxnSpPr>
        <p:spPr>
          <a:xfrm flipV="1" rot="16200000">
            <a:off x="1254600" y="43243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 flipV="1" rot="16200000">
            <a:off x="856080" y="4319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flipV="1" rot="16200000">
            <a:off x="452880" y="432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3680" y="622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decimal notation from scientific not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97000" y="1744560"/>
                <a:ext cx="34398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355920" y="1787400"/>
            <a:ext cx="424080" cy="4240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4000" y="1755720"/>
            <a:ext cx="467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exponent – move the decimal to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17440" y="275904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7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92240" y="3827520"/>
                <a:ext cx="3635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362400" y="3870360"/>
            <a:ext cx="423720" cy="4237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9280" y="383868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exponent – move the decimal to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52360" y="4857840"/>
            <a:ext cx="30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09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40" y="38322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 flipV="1" rot="16200000">
            <a:off x="1254600" y="43243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 rot="16200000">
            <a:off x="856080" y="4319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V="1" rot="16200000">
            <a:off x="1746720" y="21988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 rot="16200000">
            <a:off x="2169000" y="21812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8" name=""/>
          <p:cNvCxnSpPr/>
          <p:nvPr/>
        </p:nvCxnSpPr>
        <p:spPr>
          <a:xfrm flipV="1" rot="16200000">
            <a:off x="2583360" y="21747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9" name=""/>
          <p:cNvCxnSpPr/>
          <p:nvPr/>
        </p:nvCxnSpPr>
        <p:spPr>
          <a:xfrm flipV="1" rot="16200000">
            <a:off x="2988000" y="21589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90" name=""/>
          <p:cNvCxnSpPr/>
          <p:nvPr/>
        </p:nvCxnSpPr>
        <p:spPr>
          <a:xfrm flipV="1" rot="16200000">
            <a:off x="3402360" y="21528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91" name=""/>
          <p:cNvCxnSpPr/>
          <p:nvPr/>
        </p:nvCxnSpPr>
        <p:spPr>
          <a:xfrm flipV="1" rot="16200000">
            <a:off x="3818160" y="214956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2700360" y="275256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0360" y="2746440"/>
            <a:ext cx="4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2120" y="2752560"/>
            <a:ext cx="4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scientific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18960" y="1308240"/>
                <a:ext cx="28101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3,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233960" y="125244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rst put the decimal after the first non-zero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4760" y="35132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.3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5040" y="119700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40080" y="2319480"/>
            <a:ext cx="467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nce the number is a large number the exponent will b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3560" y="395460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ow far do you have to move the deci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9800" y="35863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V="1" rot="16200000">
            <a:off x="2929320" y="1684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 rot="16200000">
            <a:off x="2530800" y="1679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 flipV="1" rot="16200000">
            <a:off x="2127600" y="1687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V="1" rot="16200000">
            <a:off x="1724400" y="16938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959200" y="346248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scientific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84080" y="1308240"/>
                <a:ext cx="23749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,4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4233960" y="125244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rst put the decimal after the first non-zero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4760" y="35132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8.4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5040" y="119700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305080"/>
            <a:ext cx="46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nce the number is a large number the exponent will be posi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45120" y="394020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ow far do you have to move the deci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62080" y="35719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flipV="1" rot="16200000">
            <a:off x="2929320" y="1684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V="1" rot="16200000">
            <a:off x="2530800" y="1679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 flipV="1" rot="16200000">
            <a:off x="2127600" y="1687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381480" y="344808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scientific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1640" y="1312920"/>
                <a:ext cx="2424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233960" y="125244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rst put the decimal after the first non-zero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60" y="35132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2262240"/>
            <a:ext cx="46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nce the number is a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number the exponent will be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45120" y="389736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ow far do you have to move the deci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9520" y="357192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98920" y="344808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 flipV="1" rot="16200000">
            <a:off x="2153160" y="1646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2" name=""/>
          <p:cNvCxnSpPr/>
          <p:nvPr/>
        </p:nvCxnSpPr>
        <p:spPr>
          <a:xfrm flipV="1" rot="16200000">
            <a:off x="2575080" y="162900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the number in scientific no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7120" y="1297080"/>
                <a:ext cx="3781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3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233960" y="125244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rst put the decimal after the first non-zero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760" y="35132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3.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2262240"/>
            <a:ext cx="46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nce the number is a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number the exponent will be </a:t>
            </a:r>
            <a:r>
              <a:rPr b="0" lang="en-US" sz="3200" spc="-1" strike="noStrike">
                <a:solidFill>
                  <a:srgbClr val="996633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5120" y="3897360"/>
            <a:ext cx="467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How far do you have to move the deci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14680" y="358632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r>
              <a:rPr b="0" lang="en-US" sz="5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33720" y="3462480"/>
            <a:ext cx="5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/>
          <p:nvPr/>
        </p:nvCxnSpPr>
        <p:spPr>
          <a:xfrm flipV="1" rot="16200000">
            <a:off x="2117880" y="164628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3" name=""/>
          <p:cNvCxnSpPr/>
          <p:nvPr/>
        </p:nvCxnSpPr>
        <p:spPr>
          <a:xfrm flipV="1" rot="16200000">
            <a:off x="2487960" y="16290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4" name=""/>
          <p:cNvCxnSpPr/>
          <p:nvPr/>
        </p:nvCxnSpPr>
        <p:spPr>
          <a:xfrm flipV="1" rot="16200000">
            <a:off x="2843640" y="16225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5" name=""/>
          <p:cNvCxnSpPr/>
          <p:nvPr/>
        </p:nvCxnSpPr>
        <p:spPr>
          <a:xfrm flipV="1" rot="16200000">
            <a:off x="3191040" y="164952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146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27, 5 – 8 #1-1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20T18:10:59Z</dcterms:modified>
  <cp:revision>62</cp:revision>
  <dc:subject/>
  <dc:title>Slide 1</dc:title>
</cp:coreProperties>
</file>